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B01-5850-4EAB-B6D3-5B8B3961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41D-62A3-45E6-A959-8FBCB80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D0F-3535-4AFE-A0DF-E2A0C2B6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2D7-F3FD-47AA-B666-E65CAA1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6B9A-B21A-4803-BA9E-79DFFCE5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52B3-01F2-4449-A5E8-AEEC185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E66-FEF6-4354-94D3-2105039F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0D4A-B808-46CC-B5AE-45DBD9E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B35-189C-4D46-90BE-81952AE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BFF-59E4-42A8-B33B-A9635FC9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01D1-C1FC-4EDC-921C-650669E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EAC-FF60-49E2-8D39-13CED9C4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6C2-E844-4363-B09C-8F83F1C7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D83-37D2-4DBA-87EC-79AD1B0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7B6-4D64-4B07-8AA6-524E0F2B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BFE-19A8-4031-A995-DFE600F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B8F6-A477-4CBE-AF24-29ABC727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54D-DBC1-4C60-B24B-9FD20AB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083-2BBC-4D4C-9F74-BB4CF2C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D86-4A63-4D4E-847D-DAE6FBC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C42-721B-4283-9C7B-5C7AD1AE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199-8AE9-495A-883B-9DEC699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472-A3A7-4076-A709-7F7FB5E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446-6188-44DC-8E10-0D8A022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90F-2D0A-4B47-AF61-A8BC53836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078-D5F0-4476-82DF-E00D0444C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ulletins.psu.edu/bulletins/bluebook/university_course_descriptions.cfm?letter=B&amp;courselong=%7C%7Clates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ulletins.psu.edu/bulletins/bluebook/university_course_descriptions.cfm?letter=B&amp;courselong=%7C%7Clates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Evolution of Peer Assisted Learning at Penn State, University Par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A Training Tr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Lead – Sophomore/Ju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ant Undergraduate TA – Junior/Se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graduate TA – Se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rted about ten years ago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ous benefactor gave funds to help at risk students in the Biology Core Courses (4 intro courses all majors t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red tutors from students who had done well (B+ or better) in the course the previous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tor training mini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solicited to join after first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se earning ~70%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 weekly in small groups (~4 students) – question/answer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s eventually ran out but continued by giving tutors course cr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ormal assessment but conclusion was that this approach didn’t work for the truly struggling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00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Learning in Biology (1 credi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and learning skills to facilitate the understanding of complex biological proc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requisite: Concurrent enrollment in biology or life science course and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rmission of progra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offered in Spring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our core cour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solicited at the beginning of the seme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ail to those enrolled in the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any student to en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could enroll later in the semester if they felt they needed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ormal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tutor training and having stronger students in the groups seemed to he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25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Leadership in Biology (1 credi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training in guiding others to learn, communicate, and apply biological princip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requisite: 8 credits in biology or life science courses and permission of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for tuto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eetings but variable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mor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ed a dedicated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cent Improvements                   (2009 – presen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register for the course before the semester be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dd later if there is spac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appears on their class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instructors took charge of Bio 003 and Bio 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tructured tutor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er expectations f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(Sat/Un) based upon performance, not just 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110 – Fall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re course – Basic Concepts and Biod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66 students (mostl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mes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6 enrolled in Bio 003 – ~10 students per section –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/expectations survey at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zes/discussions on note taking and effective learn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packets (worksheets) to guide discu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s, summarize lecture, thought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 peer leaders in Bio 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peer leader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evaluations other info still being analy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 003 Survey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31920" y="1285920"/>
            <a:ext cx="4217760" cy="4983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446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o 251 Survey Results –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d of semes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44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s for Spring 20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 220W – Populations and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400 students in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19 students in Bio 003 (6 peer leaders) – 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dd as semester prog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 240W – Animal and Plant Physio/D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625 students in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48 students in Bio 003 (9 peer leaders) – 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week, a different student is responsible for summarizing the lectures from the previous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tudents must write multiple choice questions for the sam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results – more interactive, stronger students are not dominating the discussion each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6:11:08Z</dcterms:created>
  <dc:creator>hass</dc:creator>
  <dc:description/>
  <dc:language>en-US</dc:language>
  <cp:lastModifiedBy>hass</cp:lastModifiedBy>
  <dcterms:modified xsi:type="dcterms:W3CDTF">2011-03-10T22:57:04Z</dcterms:modified>
  <cp:revision>7</cp:revision>
  <dc:subject/>
  <dc:title>The Evolution of Peer Assisted Learning at Penn State, UP</dc:title>
</cp:coreProperties>
</file>